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9D0-D908-47A0-A4FE-B4831F02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90D-0AA3-4119-941B-745E65A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97712-576E-42A6-931C-AEFE7BB8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C8C24-5E54-438F-92F3-E5EFC1F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8CD0-8814-4F58-A779-624E9369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7C1B7-F42B-43D0-9406-247DC86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5B28C-82EA-4438-B75D-AFBC489F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F992-84B6-4A65-91A5-DBB2E3E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CC521-ACAC-4965-B5DF-27714CB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B3EDE-0DB7-4B7C-AB9D-D074DD44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CEB1F-E3B0-4470-A001-3A315A4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E3A99-075D-48A5-A687-B288365A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B96-CD1C-4460-8E5C-D911A954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2EC3B-7BD5-4D1E-A4A1-7B802F6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7EB0F-2B3A-4084-BDF5-63BC63D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FC3DC-7DA4-4D7D-926E-6E6B7374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2C0C0-0C6F-41C1-A179-3BD3E17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8993C-FB1E-4222-B610-F69EDF6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8B19F-4282-440E-A2D2-4EA1089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54383-5436-4188-A096-A4CBD76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3B8BE-68A4-4117-B656-D20C7D2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BD662-C0BC-4A3B-9E9C-01FDCE4E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C358-E786-40F2-881C-2446C6FF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BD8-E941-4C36-AF9D-23CE56A0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9191C-6F0D-4B23-A92B-9B4FECBC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5472B-EB08-4560-A7E3-618E0197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ED4F2-1381-416A-836A-FF9CD15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F7937-D657-47D3-941E-20481098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4C61-311F-4A11-BB05-C472B4F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B7D86-BD2E-4A97-B190-0E83B281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2AF42-9ED4-47E6-A397-643E54F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04FB-BDA5-493A-9033-EAA87D2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A3308-9485-4A33-A293-5877B11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EEFB9-CD30-4F37-984F-2AA6592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DA1-0F6E-42B5-AA47-70EF2950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6CCA-58F2-442E-8C61-0781623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25A1-3BCC-4D13-AA0C-AF79E84D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9C18C-8F6A-4CEF-B6EB-A9CBD374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1E81A-F44A-409F-8183-A6687429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D95A-722F-4D53-BBF3-1847849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2343-829E-483E-BD8B-B20361EE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18D2D-793D-4F9F-84B0-D8793B5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D2BA1-F40A-4928-9A1A-02742B24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A8421-8CE7-487E-AC7A-A938CD47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CF2E6-20FA-4B0B-943E-C8DC8BD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579C-85AE-424D-9F21-5CDC14B0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E5DA7-AB97-453A-AAA2-F0D91E8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63AA8-45ED-492C-B5A4-98BA936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1C7B2-1299-411C-96BD-0BE526E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C5173-1494-46B2-A468-12069C12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26802-0CDC-472C-AC28-05ABE8C8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647BD-FC46-4E31-9BDF-8AA8255B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46494-A798-4972-94DC-2E7B501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32242-F096-4BF9-8A42-C9954C46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94C27-F674-4378-B309-745B066D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B9B39-822B-4665-927D-F845FEA9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19BE-AEF5-479E-8260-7B0C31C8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49C8D-B372-4085-8703-EEB6FB21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FA743-4C7B-414C-88BF-AE01317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3D594-7F21-47F8-AA7A-E99FCEB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63AF5-7076-4217-82FF-3E2A04B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62AA3-6B8F-42D1-87D6-090EB4A7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98550-7488-4D9E-8158-2F701641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8188C-9C84-401C-80A5-C2105053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CA4C1-4997-4D0F-A0E7-B6C6813C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54F69-13ED-459A-B29D-11DE57AA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AA0FC-4A9C-42A5-A63A-B2A20C58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9CB1-87B9-4E93-91E9-1544A13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C93B2-57AA-4B59-838F-3B71A63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89C43-5CA4-4562-B457-400F660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95DE2-B499-4265-B6DB-07FB407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2A6A4-7E22-49F4-B0B7-84C7CA0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F7593-87BB-4218-8B03-AE1E912A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41F58-79FB-4F4E-B175-01BAFA5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19B09-7C77-4A0E-9F3D-AA1A3D9D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C0A40-C566-458D-8D79-655CE49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DB690-0A70-4045-BB08-51ADF216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4B2ED-1320-4502-8058-DBC94643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0FC-B92E-4BF4-91F0-43A0CDA9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67D03-25F2-4018-8C55-294E4809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50F6C-C8DE-4311-8A2A-2439DFAF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7D28B-391A-4EBF-AE7B-2465CE84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050A5-6D6B-44D9-967F-6A7A2C5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FB4CB-4837-47EF-83E6-3CC1976B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617B2-2EE0-464B-9A1E-22E82ED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D9A35-9DA2-40A5-94F4-4D8A33F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342B0-5D2E-49EF-B694-4B22F98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09F5E-6592-4C95-B00A-8CB47A6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0937A-2778-41A3-9A9D-21BA0112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576-7A5B-4E18-8EF3-C47D9C8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F8344-65B2-402E-BE87-C9AE0597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184D9-D21F-4FB5-8D6E-EB158EB9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F4FD6-E076-434E-842C-E43F14FA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B7B0D-71BD-4C36-B00A-86DF5500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81E49-D000-40AB-B264-87DD5E2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E67C9-B4B9-4DEE-AF83-A107F0E7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835EA-C92F-4704-8F40-429E148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8E669-1C79-46D7-9E2B-B368C11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D1947-0A93-4099-9568-BA4E3B6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BA50F-5F30-4CBA-9AED-6AC87AA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CF99-D382-46EF-8208-BB3A98E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60CEC-CDB2-4D27-B7CF-F11244B4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D9CCE-7BB3-4D12-A017-D30B376A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8BAF2-6EBF-4D79-8A23-9A60E8F9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5641B-73E2-4853-804E-17515D67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754D1-91D4-440F-BC70-37FD8A18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DBB12-AD45-4091-933B-DE58B41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6BD12-58A9-4CC0-B3D5-3E0BE9C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4F8FA-BF2B-4796-AABF-E5AE9A61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98D51-B922-4D8A-B98C-7317FAF8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EC640-7555-44C6-81AD-F414242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21F-D0E3-40A3-8CF3-39364921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C9A-7ECB-45DA-A1A0-D0C27D73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DD386-0D7E-46F1-BD83-2B778FC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74583-B409-42E1-AA27-1CD651A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FCB97-9F4C-491F-A62B-79697F6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3E70E-F628-4085-87A6-B8BFD633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DE216-3500-4F67-9654-B8DE7C7D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12E24-E27E-4FDD-AE00-A01148A3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39F1E-0E96-4A73-8CB4-C4FBC3A0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CFC7C-179E-4C65-9515-31E757F3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EBBDA-2DDB-409B-A100-4E22B078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81690-9E0E-47C7-9340-B51C507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B2DA-0ABC-404E-881F-A881103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9B65C-92EF-4CFF-A9E9-3ECB23E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13455-9C69-4524-B636-B7863C8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C50FD-6B0D-4D08-8C8F-0A78B35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E1C78-BF97-4F1B-8B9E-F609570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7E667-82F5-4351-9096-5AAE86E6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506AB-25BB-4809-8F0F-B7A1495C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C83A5-9131-422A-9667-7F80F805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589FC-28D8-4D28-AA0B-5135334B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86FB42-F6E6-4378-9CD7-13A124DC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401D2-E6DC-467E-9E2F-17C6FEE8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203A-6870-4C4C-B9AA-DB62469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FF186-056A-4AE2-A698-7125EA9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C7DD5-2CF4-43E2-9348-FF58A325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D0A59-8A99-447A-8D1C-8ED6A6D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9A70B-3910-4C1B-8AA6-99B1FC63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948C5-8506-4E8B-B3F3-AFD7DD7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6EAAD-06A1-4C1C-B606-ADBAABE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C0FE5-7FDB-4AE9-991B-F78CF3B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E178C-17DF-4398-ABB7-F8165909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7CE89-6961-4AEA-B0CB-D1D41BFC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9AFE6-C862-4901-831D-A8575B26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8F34-2111-49BB-9837-522D47A4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28D7E-9D08-4D0D-BDF1-DE631325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E954D-C090-4820-ADC7-9B05402A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0074F-3904-41A0-A7DC-B74A71D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C9AF0-FD78-4952-B87A-38344A2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91D3C-1782-4754-A447-C88B7FC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EF269-7935-440F-B249-19325D6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11471-A026-4F0B-8B0F-31661EE8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CB80F3-C72C-4D5D-AAC9-0255E0F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6700A-FB5F-442E-86C3-F2EF94A2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61847-AF45-4F09-B497-5B15DD53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9AF-3D71-4690-94D1-E2EF1051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57377-B77A-4B22-91C8-EE41C584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6B795-5403-4EB0-BC60-3961BED0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62D84F-8AB7-4354-83B6-6F867786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3C3E55-D952-4BDA-927B-709EA4E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6E150-ECE9-4C9D-9C7E-6B979A3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96BE5-B9A0-42DB-B6AD-185D4D7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50EDF-E8E4-47F2-B5C3-455E606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87F576-2E69-419B-B11C-9D752AA1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5B3DA-8F66-4244-887A-BE39B22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58270-8AC3-4CB1-97BC-A7A4563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C275-6031-46F3-ADBA-EF22D7F9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7091F-96FC-41A2-BD99-27AED6E6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8F8E9-FA5A-4F60-B746-2C76FFFB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8EE59-9FC9-43F4-A85F-E139FC7A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C9DD4-D16C-464E-BBC1-0AFEB2A4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560B5A-61E7-4A65-9563-0765ACB1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9E24AD-15A0-4909-9AB5-CAE8FDBF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AAA80-D0F3-49C1-B53B-5AFFB43F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11283B-8DF5-4761-9A33-948470F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7C599F-851D-4991-8F63-761D89A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7F396-63A6-4727-AA59-D313D655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E77D-8116-4291-B74B-E8F5899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750EDD-3D90-4B7F-B5DA-F1B2BA4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C11F1D-7BFC-4D75-AAD9-5E65043F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F14AB-B5FE-48AF-9C1E-8969ED80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9AB474-0C30-4D95-AECD-DC7372DA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4AED64-A8C8-4467-8F7B-A592A28D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138FA-D1E9-4DA5-8BBA-15B7C488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C68829-6D09-4C9D-A3C3-3B146028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459C7-45F4-464B-A7BE-0E73FF0C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1B28B-207E-42F4-9B26-D2CD7DB6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8B426D-59EF-40DB-B2CD-B677A31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C3D6-8B44-4696-A4A3-C1D58CA0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BBDC44-B78D-4763-A909-4277272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6DDABE-03B2-4F5B-AF6A-AE711F4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D2E9F-C3A2-4B59-9F17-2AD46A4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F29A0-7704-4CB8-B9B8-57C8EEB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ECFE2-5D36-4FC3-A7BB-B7E3C42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108AB-AFC8-4CEB-8F0A-D539AE5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39951-0975-4300-92CA-C13382E8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A96E17-51E1-4032-81F0-0A97FF0D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E726B9-664E-4FEE-B396-9B95679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F41890-57FE-421D-B5E7-EF7801D1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67C9-FC8D-4773-8DA7-E57C70C9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7087DA-A343-4074-8467-CBAD8066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63364F-3546-43F6-B7BA-D10B82C1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A759D2-1FFE-470F-9C0E-A803E2A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676A6-A9C8-4D99-885C-D690A41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E9B753-BCB5-474F-86C0-59B9DBE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192C5D-F509-4513-8EA2-3A8926F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C0A39-A949-4573-B76F-A78802AB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29E64B-AEBA-4D12-A557-9727F187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424B07-805F-43D2-BF94-8CAA34A3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1B0EE8-DC32-4711-AD20-0B67E0EA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8105-526E-4B42-A89E-6B689EB6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142A2A-A20C-45F7-960E-9DA02454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0D78B6-296E-4863-A7A3-9A4E73C4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BE3E12-3E51-4BAB-B121-08FD2CC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E3072E-8FF9-4938-9A73-184CB35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7A579F-DC33-4BEB-8131-78D84656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474E01-FF5E-40AA-804F-612DBFD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2F799-BCCD-455A-82FC-0580E46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B8B928-9953-4608-B353-3733419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541815-34C5-497C-AF48-4177DA5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267804-4CC9-42C5-9026-E2C2CB07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054-0CDD-4F65-932A-99AAFEA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42F6-3F18-4E5C-8BCC-ABB6E6C4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E740AE-6BC0-47E8-A7B1-1B182FF8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848539-BDC9-41A4-B18E-99347356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1D28F3-861F-4E9F-B2AE-B4CC6121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D2AF14-3958-4439-9F13-BD5A62C5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AF3050-13A8-4FC1-A5E5-EFC7351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F79C35-A6AB-4EE0-A1BE-C5F454A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0F4401-52A0-4337-AE7D-75BA9E9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D1114-226F-48D8-B454-3793965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39DC5A-0E55-4D10-9DD0-9A1A243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AA205-7A8F-42CA-8E85-31C95C4D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A0DF-A3B2-428B-BAB6-3F6C845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F454B4-9B4E-40FE-8DCD-94D47289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E64655-1DD7-4753-B5C2-2B5EF929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E906BF-B0AA-4179-82FA-B4EA1B2C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13DFF4-041C-4658-95AC-7F999566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B9C105-6C85-40AF-BA99-759C24BA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071E4-A494-4920-87A1-B4765AB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32F3F4-8061-40D2-8669-0700C73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E95CA4-5F25-4C89-993D-38774CE2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EFC9D6-0189-46C6-9A4A-70E1C2A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D442EF-67DE-4C62-AF3D-64781370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A831-C370-48AA-B58D-5493382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12A286-96A5-4AD9-B151-C2E3D5B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A46DCB-CFD0-462C-AAE1-38A34039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9EE2FB-8C65-429E-A2B7-C49E01D7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B7901-5843-4F0C-835F-F3F42A23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DB20AD-4D76-4BA5-A032-9DF47F70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D3015D-1E05-4757-8FBD-8FFA8A1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F4C953-FAF2-4013-9784-E3C4AFA5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05CCE4-5A0E-4061-B593-1F4D18B7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52F9F2-D2BD-4D2B-B30D-5486B618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EE4AA0-E59D-4CDC-BA4A-9CB6BD77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EEBC-17FC-41E6-AF6B-37D6DC2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CCA321-0166-4239-B739-7F2B9D41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8FA32E-5217-40DB-AFDA-7254561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66F18-FFB4-4C76-9DAB-A3F6329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31B06C-ABDB-45E6-9951-22A18B8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9DB08D-C1C0-4759-A94B-C27A58D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12F20F-2780-4FD0-B1B6-E58B4E88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13B355-C5F5-4F9F-91F3-609FA0CD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114741-4BD8-4A8D-9DFE-BE4388E9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8C2964-4245-4374-B0BC-0A0C6C1D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045408-402A-4DA3-854F-ED91A0AB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DD2B-F125-4DDA-A3E2-4DC1A646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FF76B5-A459-4F4F-8A17-AF1AEFF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A93182-D239-4D4C-8DB0-13138E7A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1249B9-70AB-4336-A4F1-BE00B081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6F51F0-DB08-4168-8352-6C524D7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11DEDE-6C4B-4D02-A332-E9545EC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326DCD-DD1B-459E-B022-99C2565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FCE90D-4E23-46D3-8045-84A00622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7BB142-93E8-43D1-912E-C3CB274B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8ABF8F-AA79-4ADF-AE77-EAB4762A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47EBEF-E09C-4C61-A9C0-20360BF9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57BB-7CFF-41B8-B62F-F8F432A0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4FA625-1B8D-4967-B42A-4875622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6D4B1E-E5E7-43C5-BABA-64B8D1E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32D79F-9D73-4383-A1CB-C478CB0F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7A7770-5F95-4291-BA05-FCA0936D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AB1C0D-24F0-4498-9194-B335FE41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B1DA97-8647-4D42-8818-0206956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B32D17-B82B-4829-A0D0-F91EB91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7DB0B8-D4D9-4A4A-80AF-E205FFD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F94845-9DE3-4CA3-9946-42A27341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16CA3D-5FEA-4FB2-8FE2-A54FC271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33E1-CF2F-4187-BC6C-1DBEFA43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8C84ED-85CA-4A8D-A77F-DD146498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C56DEA-68D7-4E78-9950-9AC6CB69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DD9C68-A0C4-4827-B2C1-B79800AD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F705AC-F0FF-4B4A-9554-8C7DB192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98CD9F-E9E9-4E90-A09B-0A15E87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8F70C7-4A55-4EDF-8C21-47A0C87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C9284A-0F3E-4463-A2EF-59E13621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21D5A4-F6E4-4449-A4CE-205F16EE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DCDF24-CE6A-4CA1-9F5F-F8693EC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DB669B-C8A8-4253-B463-B984DDB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4C52-A94D-4FEE-9787-2A435578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F4E028-02FF-408D-AB83-3FDE5E3A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CD9FDF-57B4-48FE-AFE5-86E2B5BB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10DAF7-0822-4F00-873A-88B5343E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5F08-4659-492A-9600-C2F1F215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F28E-838E-410A-B4EA-05A302E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A50-CAB9-49FA-A79A-5935CC38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35FF-4F8A-4167-9396-2044949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A533-CBC7-46E0-868F-4C8FEC0C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318E-80ED-4E0A-A596-C4F5D23F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62D6-21C7-45DE-B273-35F854B7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5FBB-80DF-40AB-859D-0CCDF8B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AB4E-D94B-49A5-AABF-B25D64D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2709-3A0D-4C6E-912D-B6905B3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A671-0C6B-49B6-81A1-33C5F533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857E-A9AD-452E-B2C7-A4406728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99B07-E4C8-42D9-B802-88656668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5F8-5699-4E27-BC57-505F20C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B529-515D-4979-A91E-5964D7B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C9C0-BA46-47D3-A40A-9DF7933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5BF37-4555-469D-9A4F-7FDCA1A2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B69C5-28BF-44C1-8A94-B365EED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F7E1D-BBC3-4DE8-B6CA-45F2BD4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196B-D0D7-4CBF-BE4E-E375575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9209-D331-4F16-8890-148960F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95A9-472A-4652-BB2D-0083541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CF82-FAC7-4AED-8B93-ED1EC2F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D1D3-5AB2-4B7F-8D0B-1DEAD5A7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29A-4056-421C-BC21-6B9C864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ADF7-0197-43DD-A93A-A9498234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E6EB-ABD6-40BF-BB7C-97398940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BB09-3BFC-41D4-B2ED-C299B514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CC9C-2E26-4F41-A100-774C48B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9B460-F8AB-49AF-99CF-60254835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6BF6-951C-4844-9954-7539774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BAB2C-F3A5-4123-BB11-536A8258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FE35-6B06-49C8-8F75-5DC20B32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7692-F96E-41D3-8F49-8315B7F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8A0BD-6955-4E22-8E41-54B2F99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E12-3EA4-4EA3-98BC-FF8C93C3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632DA-370B-40F3-88AD-C2FE53AB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1255-9F1B-4DFC-B0E9-B87023F9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8BA0-E1EB-4ADF-B0B0-A10228D8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5352-0338-4823-9E55-980D31AB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DE10-722D-49CE-AA6C-FB98F1F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75933-AEE1-4634-BF6D-0F2FADF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2A52-BBF5-499C-9012-9E46721D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2129-F474-4C7B-9250-8684D344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B661-0EA7-4DE3-94EF-F093B42E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D2CB0-E649-4AD3-8836-7B0BB35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62B-9B25-4F24-BCDA-72F04C6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BF3CC-8350-46DC-83E8-2F393FF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3537-1C5A-4DFD-946C-B88E74A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338B3-60CD-4638-B638-742CE93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C34BC-9D20-4C27-B19D-8E913F38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B982-3DE9-4A00-930B-B2E0E929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B79DF-3A56-4F07-85ED-A2A4FC8C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907A4-0AE6-41FC-960C-B66894FD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9607-8D1E-49BF-B979-B7236042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B5FF5-A5AA-470B-9C26-F2FB99E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94D18-85F2-45F2-943D-DBC92F45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27C-93B3-4F43-80EA-AA9C8FC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5CDA4-B1F2-4D44-B5D5-D50B6ED9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468C2-0C95-4CF0-B38D-A9DB39F0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3B30-BC13-41DE-96F8-8AD321A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7409-B075-45D0-9E92-30D3E48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5185-E32D-46D5-8DC3-B8AAAE4D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FCF83-D77A-4144-A9F0-B40691B8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32C0C-9F99-41DC-9CFD-9FBC5CDB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26CD-F37B-4535-8539-50A000AA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13591-0366-44AF-8375-FFBCC16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31A2-AD31-4FE2-870E-A84813C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B97-93EE-4091-B4B9-97E7BC2921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3B5E-61D1-43E0-B14C-F865BAB5ED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3F24-A48D-401E-BB43-9D27C39B14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CB52-6C09-4B5E-BFB6-1E52242A99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6A6D-CE25-4D73-BC99-FFE8552319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B611-4F60-40D7-9ECC-E0915B01A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8C6-872A-4D52-AFF7-1176277FF6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77F-7630-4F73-9D30-29C6590F3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0E7-8BF1-4AE6-A1D1-97B9D5D9A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3DF5-D4AB-46C1-8523-6E8F0D565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16AC-41F5-4540-8177-6D70A52D8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D88-DCB1-463F-9BF5-9E6736B59B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A76-94CB-42AE-96DC-EE799A77E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3DCC-3958-435C-9E94-AEAF3447D9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FB6C-FF39-4B70-A9EB-037AED7C3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A04-15BD-483A-AC39-F8DCA4E5E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F61-BE91-4CBD-B544-33DC86B85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CBC4-C42D-4B56-9CF1-B578DDFA1B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D88B-96C0-4F0A-B0F8-9B68EB5B7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58D-6A68-4D5B-9241-C01E60D48B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A11-AD66-4C00-BEDC-D25BB3D94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44C1-415B-4D48-8C2B-6737338E59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4A5-DB0C-4A62-BBE3-0939DDA49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7ED-6D0A-4A61-93A0-D1111FA162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2CD-709F-490C-A22F-602A64285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C20-70D3-4C9C-9DDD-DA59320F4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FE43-EE20-49EF-A4C1-FBF9F63B0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E6ED-E963-443F-8227-42E5C72FB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F7A3-4D67-465D-8ADC-BEFD61670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A27-B52D-4411-AB8A-F696E77E8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FF2C-DA34-42EE-884A-76067EDCE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2F13-6040-4810-B892-BD64C4E600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732-BF05-452E-A602-A46E57004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9A3-E8DB-401B-9BC3-0D05FC0A1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876-51E6-42D7-BA85-378D29C2EC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EE4B-0AF5-4E7E-935D-786A30094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A7B-E410-4130-8F7B-BDD9A824F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C9B3-48B3-4FB3-8C57-4392962BA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4CA4-CEAF-418C-9B68-7B08A8226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A0F-7466-40D5-97B9-FAA89C5756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193-1D1A-4497-B64B-66CEA5008C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392-0EFC-4B81-ACAD-C31872F38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DCD1-EC57-47DB-B07C-E27733A24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BE78-301A-4630-A884-06EAD0F02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2D6-B0E5-48A8-9998-699830978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1C9-68D9-49E7-A400-8C5148B8AE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1D79-D990-4252-BFB3-AE2962CDBC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FD8F-5813-4DD4-B4E8-B137789DCB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7FB-257E-49CA-97B1-CF14A48952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30A-085B-472D-8007-44EE056FCC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34200" cy="10954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809960" cy="7999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8086680" cy="70488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28684" descr=""/>
          <p:cNvPicPr/>
          <p:nvPr/>
        </p:nvPicPr>
        <p:blipFill>
          <a:blip r:embed="rId4"/>
          <a:stretch/>
        </p:blipFill>
        <p:spPr>
          <a:xfrm>
            <a:off x="2185920" y="4484520"/>
            <a:ext cx="47149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6737" descr=""/>
          <p:cNvPicPr/>
          <p:nvPr/>
        </p:nvPicPr>
        <p:blipFill>
          <a:blip r:embed="rId1"/>
          <a:stretch/>
        </p:blipFill>
        <p:spPr>
          <a:xfrm>
            <a:off x="762120" y="1704960"/>
            <a:ext cx="7619760" cy="34480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6738"/>
          <p:cNvSpPr/>
          <p:nvPr/>
        </p:nvSpPr>
        <p:spPr>
          <a:xfrm>
            <a:off x="3835440" y="2560680"/>
            <a:ext cx="736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39"/>
          <p:cNvSpPr/>
          <p:nvPr/>
        </p:nvSpPr>
        <p:spPr>
          <a:xfrm>
            <a:off x="6730920" y="2998800"/>
            <a:ext cx="1657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40"/>
          <p:cNvSpPr/>
          <p:nvPr/>
        </p:nvSpPr>
        <p:spPr>
          <a:xfrm>
            <a:off x="1292400" y="3456000"/>
            <a:ext cx="71672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6741"/>
          <p:cNvSpPr/>
          <p:nvPr/>
        </p:nvSpPr>
        <p:spPr>
          <a:xfrm>
            <a:off x="1282680" y="3875040"/>
            <a:ext cx="26416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6742"/>
          <p:cNvSpPr/>
          <p:nvPr/>
        </p:nvSpPr>
        <p:spPr>
          <a:xfrm>
            <a:off x="6292800" y="4294080"/>
            <a:ext cx="26416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6743"/>
          <p:cNvSpPr/>
          <p:nvPr/>
        </p:nvSpPr>
        <p:spPr>
          <a:xfrm>
            <a:off x="1339920" y="4703760"/>
            <a:ext cx="55371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492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20080" cy="417204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4930"/>
          <p:cNvSpPr/>
          <p:nvPr/>
        </p:nvSpPr>
        <p:spPr>
          <a:xfrm>
            <a:off x="4788000" y="3500280"/>
            <a:ext cx="765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1"/>
          <p:cNvSpPr/>
          <p:nvPr/>
        </p:nvSpPr>
        <p:spPr>
          <a:xfrm>
            <a:off x="2901960" y="3929040"/>
            <a:ext cx="765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2"/>
          <p:cNvSpPr/>
          <p:nvPr/>
        </p:nvSpPr>
        <p:spPr>
          <a:xfrm>
            <a:off x="6959520" y="3510000"/>
            <a:ext cx="135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3"/>
          <p:cNvSpPr/>
          <p:nvPr/>
        </p:nvSpPr>
        <p:spPr>
          <a:xfrm>
            <a:off x="5796000" y="3933720"/>
            <a:ext cx="593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4"/>
          <p:cNvSpPr/>
          <p:nvPr/>
        </p:nvSpPr>
        <p:spPr>
          <a:xfrm>
            <a:off x="3851280" y="4778280"/>
            <a:ext cx="2233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3905" descr=""/>
          <p:cNvPicPr/>
          <p:nvPr/>
        </p:nvPicPr>
        <p:blipFill>
          <a:blip r:embed="rId1"/>
          <a:stretch/>
        </p:blipFill>
        <p:spPr>
          <a:xfrm>
            <a:off x="733320" y="1428840"/>
            <a:ext cx="7677360" cy="400032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3907"/>
          <p:cNvSpPr/>
          <p:nvPr/>
        </p:nvSpPr>
        <p:spPr>
          <a:xfrm>
            <a:off x="6972480" y="1514520"/>
            <a:ext cx="11286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8"/>
          <p:cNvSpPr/>
          <p:nvPr/>
        </p:nvSpPr>
        <p:spPr>
          <a:xfrm>
            <a:off x="2914560" y="2352600"/>
            <a:ext cx="1128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528480" y="1143000"/>
            <a:ext cx="8087040" cy="45720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2882"/>
          <p:cNvSpPr/>
          <p:nvPr/>
        </p:nvSpPr>
        <p:spPr>
          <a:xfrm>
            <a:off x="7772400" y="315288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2883"/>
          <p:cNvSpPr/>
          <p:nvPr/>
        </p:nvSpPr>
        <p:spPr>
          <a:xfrm>
            <a:off x="7740720" y="443700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1640" cy="91440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8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591240" cy="168588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60"/>
          <p:cNvSpPr/>
          <p:nvPr/>
        </p:nvSpPr>
        <p:spPr>
          <a:xfrm>
            <a:off x="7740720" y="198900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0833" descr=""/>
          <p:cNvPicPr/>
          <p:nvPr/>
        </p:nvPicPr>
        <p:blipFill>
          <a:blip r:embed="rId1"/>
          <a:stretch/>
        </p:blipFill>
        <p:spPr>
          <a:xfrm>
            <a:off x="552600" y="1033560"/>
            <a:ext cx="8038800" cy="47908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0834"/>
          <p:cNvSpPr/>
          <p:nvPr/>
        </p:nvSpPr>
        <p:spPr>
          <a:xfrm>
            <a:off x="7740720" y="249228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0835"/>
          <p:cNvSpPr/>
          <p:nvPr/>
        </p:nvSpPr>
        <p:spPr>
          <a:xfrm>
            <a:off x="7664400" y="461628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9809" descr=""/>
          <p:cNvPicPr/>
          <p:nvPr/>
        </p:nvPicPr>
        <p:blipFill>
          <a:blip r:embed="rId1"/>
          <a:stretch/>
        </p:blipFill>
        <p:spPr>
          <a:xfrm>
            <a:off x="571680" y="1752480"/>
            <a:ext cx="8001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771480" y="1557360"/>
            <a:ext cx="7601040" cy="37432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6"/>
          <p:cNvSpPr/>
          <p:nvPr/>
        </p:nvSpPr>
        <p:spPr>
          <a:xfrm>
            <a:off x="4397400" y="1560600"/>
            <a:ext cx="39196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8787"/>
          <p:cNvSpPr/>
          <p:nvPr/>
        </p:nvSpPr>
        <p:spPr>
          <a:xfrm>
            <a:off x="1273320" y="1989000"/>
            <a:ext cx="236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8788"/>
          <p:cNvSpPr/>
          <p:nvPr/>
        </p:nvSpPr>
        <p:spPr>
          <a:xfrm>
            <a:off x="1187280" y="2446200"/>
            <a:ext cx="14796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89"/>
          <p:cNvSpPr/>
          <p:nvPr/>
        </p:nvSpPr>
        <p:spPr>
          <a:xfrm>
            <a:off x="3997440" y="4532400"/>
            <a:ext cx="7189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8790"/>
          <p:cNvSpPr/>
          <p:nvPr/>
        </p:nvSpPr>
        <p:spPr>
          <a:xfrm>
            <a:off x="7236000" y="4532400"/>
            <a:ext cx="7189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776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8001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49:56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